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A50B-8D04-403E-B3F2-1687122FF6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6C2-8D3C-4B66-ACAF-84A589A1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432-5B75-4893-81CC-323DFE72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46C-03DB-41ED-9D38-93A4C680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A43-26A9-4A49-9D86-78FB55BF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367-F0F3-43A8-984C-1AA2D8B7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6E7-8956-44DA-8EFA-D2472401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B1F-EE04-4C6D-8925-EE9043AE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79F-0430-4A15-A582-8EFF044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82E-092C-43DE-8D64-9657F897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3AB-2F7D-4BC6-BBD4-3B09107C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04C-7E0C-40EB-A005-5CC5804B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573-0962-4FA3-B92C-5EE46FB3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CE1E-5B7C-494B-BEC9-6332F5339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l.org/div/hello/" TargetMode="External"/><Relationship Id="rId2" Type="http://schemas.openxmlformats.org/officeDocument/2006/relationships/hyperlink" Target="http://www.cherokee.org/home.aspx?section=culture&amp;culture=dldisplay&amp;ID=/aoDJcgHYwk=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lake-skilac"/>
          <p:cNvPicPr/>
          <p:nvPr/>
        </p:nvPicPr>
        <p:blipFill>
          <a:blip r:embed="rId1"/>
          <a:stretch/>
        </p:blipFill>
        <p:spPr>
          <a:xfrm>
            <a:off x="1066680" y="3505320"/>
            <a:ext cx="708660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a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oya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Cherokee who invented the Cheroke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equoyah"/>
          <p:cNvPicPr/>
          <p:nvPr/>
        </p:nvPicPr>
        <p:blipFill>
          <a:blip r:embed="rId1"/>
          <a:stretch/>
        </p:blipFill>
        <p:spPr>
          <a:xfrm>
            <a:off x="5105520" y="1828800"/>
            <a:ext cx="30099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herokee a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y Hello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sic Words in Chero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Indians settl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Tennes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ing along the Mississippi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6:18Z</dcterms:created>
  <dc:creator>Mardena Collins</dc:creator>
  <dc:description/>
  <dc:language>en-US</dc:language>
  <cp:lastModifiedBy>Legion</cp:lastModifiedBy>
  <dcterms:modified xsi:type="dcterms:W3CDTF">2017-07-06T06:45:49Z</dcterms:modified>
  <cp:revision>14</cp:revision>
  <dc:subject/>
  <dc:title>Two Native American Nations  Cherokees and Chickasaws</dc:title>
</cp:coreProperties>
</file>